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56.png" ContentType="image/png"/>
  <Override PartName="/ppt/media/image40.jpeg" ContentType="image/jpeg"/>
  <Override PartName="/ppt/media/image41.jpeg" ContentType="image/jpeg"/>
  <Override PartName="/ppt/media/image14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6.png" ContentType="image/png"/>
  <Override PartName="/ppt/media/image59.jpeg" ContentType="image/jpeg"/>
  <Override PartName="/ppt/media/image25.jpeg" ContentType="image/jpeg"/>
  <Override PartName="/ppt/media/image16.jpeg" ContentType="image/jpeg"/>
  <Override PartName="/ppt/media/image58.jpeg" ContentType="image/jpeg"/>
  <Override PartName="/ppt/media/image8.png" ContentType="image/png"/>
  <Override PartName="/ppt/media/image23.jpeg" ContentType="image/jpeg"/>
  <Override PartName="/ppt/media/image42.png" ContentType="image/png"/>
  <Override PartName="/ppt/media/image2.jpeg" ContentType="image/jpeg"/>
  <Override PartName="/ppt/media/image36.jpeg" ContentType="image/jpeg"/>
  <Override PartName="/ppt/media/image3.png" ContentType="image/png"/>
  <Override PartName="/ppt/media/image15.png" ContentType="image/png"/>
  <Override PartName="/ppt/media/image18.jpeg" ContentType="image/jpeg"/>
  <Override PartName="/ppt/media/image24.jpeg" ContentType="image/jpeg"/>
  <Override PartName="/ppt/media/image22.png" ContentType="image/png"/>
  <Override PartName="/ppt/media/image57.jpeg" ContentType="image/jpeg"/>
  <Override PartName="/ppt/media/image19.jpeg" ContentType="image/jpeg"/>
  <Override PartName="/ppt/media/image27.png" ContentType="image/png"/>
  <Override PartName="/ppt/media/image33.jpeg" ContentType="image/jpeg"/>
  <Override PartName="/ppt/media/image21.jpeg" ContentType="image/jpeg"/>
  <Override PartName="/ppt/media/image5.jpeg" ContentType="image/jpeg"/>
  <Override PartName="/ppt/media/image32.jpeg" ContentType="image/jpeg"/>
  <Override PartName="/ppt/media/image17.png" ContentType="image/png"/>
  <Override PartName="/ppt/media/image28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2.jpeg" ContentType="image/jpeg"/>
  <Override PartName="/ppt/media/image10.gif" ContentType="image/gif"/>
  <Override PartName="/ppt/media/image26.jpeg" ContentType="image/jpeg"/>
  <Override PartName="/ppt/media/image47.gif" ContentType="image/gif"/>
  <Override PartName="/ppt/media/image53.jpeg" ContentType="image/jpeg"/>
  <Override PartName="/ppt/media/image13.jpeg" ContentType="image/jpeg"/>
  <Override PartName="/ppt/media/image30.jpeg" ContentType="image/jpeg"/>
  <Override PartName="/ppt/media/DRUMROLL.WAV" ContentType="audio/x-wav"/>
  <Override PartName="/ppt/media/image31.jpeg" ContentType="image/jpeg"/>
  <Override PartName="/ppt/media/image20.png" ContentType="image/png"/>
  <Override PartName="/ppt/media/image37.jpeg" ContentType="image/jpeg"/>
  <Override PartName="/ppt/media/image38.jpeg" ContentType="image/jpeg"/>
  <Override PartName="/ppt/media/image39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52.gif" ContentType="image/gif"/>
  <Override PartName="/ppt/media/image55.png" ContentType="image/png"/>
  <Override PartName="/ppt/media/image46.png" ContentType="image/png"/>
  <Override PartName="/ppt/media/image48.jpeg" ContentType="image/jpeg"/>
  <Override PartName="/ppt/media/image49.jpeg" ContentType="image/jpeg"/>
  <Override PartName="/ppt/media/image50.jpeg" ContentType="image/jpeg"/>
  <Override PartName="/ppt/media/EXPLODE.WAV" ContentType="audio/x-wav"/>
  <Override PartName="/ppt/media/image4.jpeg" ContentType="image/jpeg"/>
  <Override PartName="/ppt/media/image51.png" ContentType="image/png"/>
  <Override PartName="/ppt/media/image5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7077075" cy="9363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77600" cy="9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4008240" y="-360"/>
            <a:ext cx="30668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96640" y="701640"/>
            <a:ext cx="4683240" cy="351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92720"/>
            <a:ext cx="306720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4008240" y="8892720"/>
            <a:ext cx="3066840" cy="468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69FF-B825-4EC1-A24B-43509E77E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83773-73D5-48A4-8492-326A7E86D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cell phone ringer to maximum. Hang from a string to prevent contact with bottom of vacuum contain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184F-E5ED-4C9C-B934-73A8B8AAD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D039D-ECC8-4DAD-BD9E-15B11874F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A7EDF-F50D-40AC-A117-10A8F56296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175C1-7032-420E-B1D2-C37C7BF33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0C37-6D6E-45A8-A33A-55A4DDA7E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9ED0-BDFD-49B3-9E8C-DAD7ADD5A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9584-409F-4421-B826-97540E5FB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B1FB-20DC-424F-BA9A-DD9D3DC5B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9F91-6254-4A74-9187-FD7E3C2EA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307F-26F7-4256-9BE8-EFDCB3F993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BBFC-6CEA-479C-942C-36AA6A621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EE9F-DBE0-4A3F-ADDD-1D0FDD2DC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C5E9-7E4C-4D81-8CDE-3593A16FA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7EF4F-9D4E-4B7C-8071-6C953D7D4D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70BA9-5E9A-4470-84F0-A0366888F6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8266-6541-47E4-AE7F-F68C85156A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DD75-5E21-4372-AC0A-86480D502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1F727-2685-4D5A-BB79-8A7420728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CF837-43C0-4527-8B1D-646C7BCAB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BA79-7EF6-42BC-A040-E32EEBD8D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9323-71F5-47F3-AB55-7D87F6E3E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A2D1-66D4-4432-8CD2-B90ADC6F7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68813-B504-4E5F-A2FC-7CAFF9D5B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4BBB9-EC90-4067-9D85-644521ED1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3C009-7A0A-4395-A897-697ACA6CB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A125-2BF8-4624-AB95-87DA94FEF5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DB62-2088-485C-A921-FF910D229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97000" y="701640"/>
            <a:ext cx="4683240" cy="35114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07760" y="4447800"/>
            <a:ext cx="5661000" cy="42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4008600" y="8893080"/>
            <a:ext cx="30668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6D26-12C1-49A2-8F10-2DA85DEBC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8606-A9B1-470E-9596-73DEF5093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0A44-4AC9-4E7F-835B-58D1B0A9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3BBC-E030-44C0-8EA2-9D1DC8479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3554-EF66-4B96-BA04-A6011AAFE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86E13-9C3C-4028-AF01-433492442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A83CB-8E28-48B7-8D06-FC9DBD21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414E-E75A-462F-B532-5F2F1131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DC883-6EE6-460B-A724-739BA213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E366D-640F-4E14-91D4-2FA8A053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08EC-8A50-430C-8D8C-120B5BE2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50030-A62C-45E4-9638-13EB2F52C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53C4-6D22-41D4-813B-66EB9979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09FF-0AE6-428B-8D25-1FA99451C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568ED-7EF5-4159-82CB-BFCAF154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0FB2-B192-46F8-AA45-A414E896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3C70C-344D-4C89-B68C-460073B00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450A6-9C88-44AE-A1A7-6AF3A2436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8432-72DB-4F49-B643-00F17F2BD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3ECA-2292-414E-87DE-0F1D3D40D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EA7DA-8888-4879-B41F-48962040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365B-D533-40BF-BD07-FC7BDD23B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5E4D-7B7B-49AF-B282-48CE2FC64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B3DA-B35E-4F5C-935B-636FC23B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4A49-1F49-4F46-AC20-03F3640E4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C1B4-94F3-4F6A-A910-B70AC49850BF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ff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Physics 1 (Garcia) SJ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00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B6F6B-6F0B-4B31-A250-5D1D07FD03EB}" type="slidenum">
              <a:rPr b="0" lang="en-US" sz="1400" spc="-1" strike="noStrike">
                <a:solidFill>
                  <a:srgbClr val="cc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00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56F5F-DD64-42F6-9786-C01002195D3D}" type="slidenum">
              <a:rPr b="0" lang="en-US" sz="1400" spc="-1" strike="noStrike">
                <a:solidFill>
                  <a:srgbClr val="cc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hyperlink" Target="file:///tmp/home/.config/libreoffice/4/user/gallery/400+401Hz.wav" TargetMode="External"/><Relationship Id="rId3" Type="http://schemas.openxmlformats.org/officeDocument/2006/relationships/image" Target="../media/image51.png"/><Relationship Id="rId4" Type="http://schemas.openxmlformats.org/officeDocument/2006/relationships/hyperlink" Target="file:///tmp/home/.config/libreoffice/4/user/gallery/400+403Hz.wav" TargetMode="External"/><Relationship Id="rId5" Type="http://schemas.openxmlformats.org/officeDocument/2006/relationships/image" Target="../media/image51.png"/><Relationship Id="rId6" Type="http://schemas.openxmlformats.org/officeDocument/2006/relationships/hyperlink" Target="file:///tmp/home/.config/libreoffice/4/user/gallery/400+410Hz.wav" TargetMode="External"/><Relationship Id="rId7" Type="http://schemas.openxmlformats.org/officeDocument/2006/relationships/image" Target="../media/image51.png"/><Relationship Id="rId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2.gi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on.aol.com/video/the-original-tacoma-narrows-bridge-collapse-of-1940-119995718" TargetMode="External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6.pn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7.jpeg"/><Relationship Id="rId3" Type="http://schemas.openxmlformats.org/officeDocument/2006/relationships/image" Target="../media/image57.jpeg"/><Relationship Id="rId4" Type="http://schemas.openxmlformats.org/officeDocument/2006/relationships/image" Target="../media/image57.jpeg"/><Relationship Id="rId5" Type="http://schemas.openxmlformats.org/officeDocument/2006/relationships/image" Target="../media/image57.jpeg"/><Relationship Id="rId6" Type="http://schemas.openxmlformats.org/officeDocument/2006/relationships/image" Target="../media/image57.jpeg"/><Relationship Id="rId7" Type="http://schemas.openxmlformats.org/officeDocument/2006/relationships/image" Target="../media/image57.jpeg"/><Relationship Id="rId8" Type="http://schemas.openxmlformats.org/officeDocument/2006/relationships/image" Target="../media/image58.jpeg"/><Relationship Id="rId9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oPWucNgN8TQ&amp;feature=player_embedded" TargetMode="External"/><Relationship Id="rId2" Type="http://schemas.openxmlformats.org/officeDocument/2006/relationships/hyperlink" Target="http://www.wimp.com/rubenstube/" TargetMode="External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ceptual Phys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2214-8A43-46CE-8AAE-96A65DDF780E}" type="slidenum">
              <a:rPr b="0" lang="en-US" sz="1400" spc="-1" strike="noStrike">
                <a:solidFill>
                  <a:srgbClr val="cc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und &amp; Musi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2" name="Picture 11" descr="458150253_82aaa163e7_o"/>
          <p:cNvPicPr/>
          <p:nvPr/>
        </p:nvPicPr>
        <p:blipFill>
          <a:blip r:embed="rId1"/>
          <a:stretch/>
        </p:blipFill>
        <p:spPr>
          <a:xfrm>
            <a:off x="1523880" y="1476360"/>
            <a:ext cx="62485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6520-2988-4496-A678-1D474FD24CC8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Physics 1 (Garcia) SJ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Light &amp; Soun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15000" cy="213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 waves can only travel through a material, such as air, water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and radio waves can travel through vacuu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6058080" y="2019240"/>
            <a:ext cx="2400120" cy="3733920"/>
          </a:xfrm>
          <a:prstGeom prst="can">
            <a:avLst>
              <a:gd name="adj" fmla="val 25000"/>
            </a:avLst>
          </a:prstGeom>
          <a:noFill/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6"/>
          <p:cNvSpPr/>
          <p:nvPr/>
        </p:nvSpPr>
        <p:spPr>
          <a:xfrm>
            <a:off x="6070680" y="4800600"/>
            <a:ext cx="2374920" cy="990720"/>
          </a:xfrm>
          <a:prstGeom prst="ellipse">
            <a:avLst/>
          </a:prstGeom>
          <a:solidFill>
            <a:srgbClr val="ffffff"/>
          </a:solidFill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7" descr="phone_lgvx4500_c_200"/>
          <p:cNvPicPr/>
          <p:nvPr/>
        </p:nvPicPr>
        <p:blipFill>
          <a:blip r:embed="rId1"/>
          <a:stretch/>
        </p:blipFill>
        <p:spPr>
          <a:xfrm>
            <a:off x="6629400" y="3263760"/>
            <a:ext cx="1308240" cy="190512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8"/>
          <p:cNvSpPr/>
          <p:nvPr/>
        </p:nvSpPr>
        <p:spPr>
          <a:xfrm>
            <a:off x="6527880" y="3809880"/>
            <a:ext cx="1168200" cy="838440"/>
          </a:xfrm>
          <a:prstGeom prst="irregularSeal1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1266840" y="3884760"/>
            <a:ext cx="4095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e the cell phone ringing inside vacuum chamber but don’t hear any s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1"/>
          <p:cNvSpPr/>
          <p:nvPr/>
        </p:nvSpPr>
        <p:spPr>
          <a:xfrm flipV="1" rot="7843200">
            <a:off x="7124760" y="2349720"/>
            <a:ext cx="1892160" cy="901440"/>
          </a:xfrm>
          <a:prstGeom prst="pie">
            <a:avLst/>
          </a:prstGeom>
          <a:solidFill>
            <a:srgbClr val="ccecff">
              <a:alpha val="90000"/>
            </a:srgbClr>
          </a:soli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o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3645-0F9F-4CA3-89DD-A0E79CC06650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Physics 1 (Garcia) SJ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eck Yourself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light waves have energ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we call the type of heat transfer that occurs when light transfers energ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sound waves have also have energ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46B5-09F1-48DE-A585-3CAACD9F5EB0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Physics 1 (Garcia) SJ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1" descr="20-01UnFigure_FIG"/>
          <p:cNvPicPr/>
          <p:nvPr/>
        </p:nvPicPr>
        <p:blipFill>
          <a:blip r:embed="rId1"/>
          <a:stretch/>
        </p:blipFill>
        <p:spPr>
          <a:xfrm>
            <a:off x="4643280" y="1447920"/>
            <a:ext cx="3591000" cy="48765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dia That Transmit Soun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 travels better through elastic liquids and solids, such as water and rocks, than through 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due to the close proximity of the atoms as they vibr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6940440" y="3516480"/>
            <a:ext cx="2203560" cy="916920"/>
          </a:xfrm>
          <a:prstGeom prst="rect">
            <a:avLst/>
          </a:prstGeom>
          <a:solidFill>
            <a:srgbClr val="ffffff">
              <a:alpha val="70000"/>
            </a:srgbClr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r richer, louder sound transmitted by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9C51-D85E-4A3F-BE8D-DF1B868319B6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Physics 1 (Garcia) SJ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Your Voice Sounds Lik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76544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voice sounds different to you when you hear it from a recor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because when you are speaking aloud, most sound waves reach your ear traveling through the solid flesh and bone of your skul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942247607"/>
          <p:cNvPicPr/>
          <p:nvPr/>
        </p:nvPicPr>
        <p:blipFill>
          <a:blip r:embed="rId1"/>
          <a:stretch/>
        </p:blipFill>
        <p:spPr>
          <a:xfrm>
            <a:off x="6127920" y="1508040"/>
            <a:ext cx="2857320" cy="2800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ESYRECAL"/>
          <p:cNvPicPr/>
          <p:nvPr/>
        </p:nvPicPr>
        <p:blipFill>
          <a:blip r:embed="rId2"/>
          <a:stretch/>
        </p:blipFill>
        <p:spPr>
          <a:xfrm>
            <a:off x="6541920" y="4033800"/>
            <a:ext cx="2602080" cy="2676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prod-holt-cellphone"/>
          <p:cNvPicPr/>
          <p:nvPr/>
        </p:nvPicPr>
        <p:blipFill>
          <a:blip r:embed="rId3"/>
          <a:stretch/>
        </p:blipFill>
        <p:spPr>
          <a:xfrm>
            <a:off x="4975200" y="3344760"/>
            <a:ext cx="1886040" cy="18954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7"/>
          <p:cNvSpPr/>
          <p:nvPr/>
        </p:nvSpPr>
        <p:spPr>
          <a:xfrm>
            <a:off x="5054760" y="5243400"/>
            <a:ext cx="166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Leave yourse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a voice-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3" descr="ear2"/>
          <p:cNvPicPr/>
          <p:nvPr/>
        </p:nvPicPr>
        <p:blipFill>
          <a:blip r:embed="rId1"/>
          <a:srcRect l="10001" t="8244" r="11576" b="7725"/>
          <a:stretch/>
        </p:blipFill>
        <p:spPr>
          <a:xfrm>
            <a:off x="1019160" y="1324080"/>
            <a:ext cx="6921360" cy="46972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uman Ea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276120" y="6094440"/>
            <a:ext cx="856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sure variations of sound waves push the eardrum, whose vibrations are transmitted by the ossicles (ear bones) to the cochlea (hearing ca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chlea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brations transmitted by the ear bones create oscillations in the fluid with the cochlea (snail in Latin), which is a spiral-wrapped tub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oscillations within the cochlea cause the basilar membrane to ripple, like a waving fla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cocfetus"/>
          <p:cNvPicPr/>
          <p:nvPr/>
        </p:nvPicPr>
        <p:blipFill>
          <a:blip r:embed="rId1"/>
          <a:stretch/>
        </p:blipFill>
        <p:spPr>
          <a:xfrm>
            <a:off x="506520" y="3606840"/>
            <a:ext cx="2492280" cy="27082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schcoch"/>
          <p:cNvPicPr/>
          <p:nvPr/>
        </p:nvPicPr>
        <p:blipFill>
          <a:blip r:embed="rId2"/>
          <a:stretch/>
        </p:blipFill>
        <p:spPr>
          <a:xfrm>
            <a:off x="3252960" y="3419640"/>
            <a:ext cx="3323880" cy="31431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cross"/>
          <p:cNvPicPr/>
          <p:nvPr/>
        </p:nvPicPr>
        <p:blipFill>
          <a:blip r:embed="rId3"/>
          <a:stretch/>
        </p:blipFill>
        <p:spPr>
          <a:xfrm>
            <a:off x="7059600" y="3932280"/>
            <a:ext cx="1133640" cy="145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rgan of Corti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36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rgan of Corti forms a ribbon of sensory epithelium that runs lengthwise down the entire cochle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air cells of the organ of Corti selectively transform the oscillations of the basilar membrane into nerve signa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cochlea"/>
          <p:cNvPicPr/>
          <p:nvPr/>
        </p:nvPicPr>
        <p:blipFill>
          <a:blip r:embed="rId1"/>
          <a:stretch/>
        </p:blipFill>
        <p:spPr>
          <a:xfrm>
            <a:off x="309600" y="3494160"/>
            <a:ext cx="4257720" cy="28670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Cochlea-crosssection"/>
          <p:cNvPicPr/>
          <p:nvPr/>
        </p:nvPicPr>
        <p:blipFill>
          <a:blip r:embed="rId2"/>
          <a:stretch/>
        </p:blipFill>
        <p:spPr>
          <a:xfrm>
            <a:off x="4762440" y="3301920"/>
            <a:ext cx="407664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2807-CDA9-4CB0-BBEE-1AA4359746B5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Physics 1 (Garcia) SJ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oudness &amp; Amplitu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udness depends on amplitude of pressure and density variations in sound wa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lwaveloud1"/>
          <p:cNvPicPr/>
          <p:nvPr/>
        </p:nvPicPr>
        <p:blipFill>
          <a:blip r:embed="rId1"/>
          <a:stretch/>
        </p:blipFill>
        <p:spPr>
          <a:xfrm>
            <a:off x="355680" y="3289320"/>
            <a:ext cx="4106880" cy="12319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lwaveloud3"/>
          <p:cNvPicPr/>
          <p:nvPr/>
        </p:nvPicPr>
        <p:blipFill>
          <a:blip r:embed="rId2"/>
          <a:stretch/>
        </p:blipFill>
        <p:spPr>
          <a:xfrm>
            <a:off x="4775040" y="3289320"/>
            <a:ext cx="4127760" cy="12384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lwave_moving"/>
          <p:cNvPicPr/>
          <p:nvPr/>
        </p:nvPicPr>
        <p:blipFill>
          <a:blip r:embed="rId3"/>
          <a:stretch/>
        </p:blipFill>
        <p:spPr>
          <a:xfrm>
            <a:off x="2162160" y="4900680"/>
            <a:ext cx="48196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6" descr="graph_1_2_b2"/>
          <p:cNvPicPr/>
          <p:nvPr/>
        </p:nvPicPr>
        <p:blipFill>
          <a:blip r:embed="rId1"/>
          <a:srcRect l="3240" t="2621" r="2435" b="0"/>
          <a:stretch/>
        </p:blipFill>
        <p:spPr>
          <a:xfrm>
            <a:off x="4997520" y="547560"/>
            <a:ext cx="3782880" cy="604368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cibe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593640" y="1332000"/>
            <a:ext cx="4829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udness of sound depends on the amplitude of pressure variations in the sound w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udness is measured in decibels (dB), which is a logarithmic scale (since our perception of loudness varies logarithmical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threshold of hearing (0 dB) to the threshold of pain (120 dB) the pressure increase is a million times hig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threshold of pain (120 db) the pressure variation is only about 10 Pascals, which is one ten thousandths atmospheric press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6362-8832-4F0A-9397-6FD2553AA763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Physics 1 (Garcia) SJ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soundmeter"/>
          <p:cNvPicPr/>
          <p:nvPr/>
        </p:nvPicPr>
        <p:blipFill>
          <a:blip r:embed="rId1"/>
          <a:stretch/>
        </p:blipFill>
        <p:spPr>
          <a:xfrm rot="19782000">
            <a:off x="5365440" y="2576520"/>
            <a:ext cx="2324160" cy="376884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Make Some Nois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experience the loudness of sound like by clapping at various decibel leve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clapping"/>
          <p:cNvPicPr/>
          <p:nvPr/>
        </p:nvPicPr>
        <p:blipFill>
          <a:blip r:embed="rId2"/>
          <a:stretch/>
        </p:blipFill>
        <p:spPr>
          <a:xfrm>
            <a:off x="731880" y="2959200"/>
            <a:ext cx="3735360" cy="267948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6"/>
          <p:cNvSpPr/>
          <p:nvPr/>
        </p:nvSpPr>
        <p:spPr>
          <a:xfrm>
            <a:off x="7162200" y="3236760"/>
            <a:ext cx="91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314280" y="5776920"/>
            <a:ext cx="6305760" cy="70380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tart clapping softly and slowly increase or decrease loudness, as I direct you using the sound me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19D3-71E5-4E4D-A924-3A2106C984CC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Physics 1 (Garcia) SJ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rigin of Soun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2276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 is a wave that is produced by the vibrations of material o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3631680" y="6199200"/>
            <a:ext cx="170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uning f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p2164680"/>
          <p:cNvPicPr/>
          <p:nvPr/>
        </p:nvPicPr>
        <p:blipFill>
          <a:blip r:embed="rId1"/>
          <a:stretch/>
        </p:blipFill>
        <p:spPr>
          <a:xfrm>
            <a:off x="5537160" y="1790640"/>
            <a:ext cx="3181320" cy="42418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7"/>
          <p:cNvSpPr/>
          <p:nvPr/>
        </p:nvSpPr>
        <p:spPr>
          <a:xfrm>
            <a:off x="6988680" y="4194000"/>
            <a:ext cx="142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uitar 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tunfor"/>
          <p:cNvPicPr/>
          <p:nvPr/>
        </p:nvPicPr>
        <p:blipFill>
          <a:blip r:embed="rId2"/>
          <a:stretch/>
        </p:blipFill>
        <p:spPr>
          <a:xfrm>
            <a:off x="3740040" y="3070080"/>
            <a:ext cx="1409760" cy="3238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photo160snare"/>
          <p:cNvPicPr/>
          <p:nvPr/>
        </p:nvPicPr>
        <p:blipFill>
          <a:blip r:embed="rId3"/>
          <a:stretch/>
        </p:blipFill>
        <p:spPr>
          <a:xfrm>
            <a:off x="635040" y="3878280"/>
            <a:ext cx="2628720" cy="2217600"/>
          </a:xfrm>
          <a:prstGeom prst="rect">
            <a:avLst/>
          </a:prstGeom>
          <a:ln w="0">
            <a:noFill/>
          </a:ln>
        </p:spPr>
      </p:pic>
      <p:sp>
        <p:nvSpPr>
          <p:cNvPr id="102" name="Line 12"/>
          <p:cNvSpPr/>
          <p:nvPr/>
        </p:nvSpPr>
        <p:spPr>
          <a:xfrm flipH="1" flipV="1">
            <a:off x="1955880" y="4025880"/>
            <a:ext cx="9360" cy="558720"/>
          </a:xfrm>
          <a:prstGeom prst="line">
            <a:avLst/>
          </a:prstGeom>
          <a:ln w="44280">
            <a:solidFill>
              <a:srgbClr val="ff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2197080" y="4138560"/>
            <a:ext cx="1244520" cy="3682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rum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earing by Age &amp; Sex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595800" y="5281560"/>
            <a:ext cx="803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ring acuity decreases with age, especially in the high frequenc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general, women have greater acoustic sensitivity than m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14"/>
          <p:cNvGrpSpPr/>
          <p:nvPr/>
        </p:nvGrpSpPr>
        <p:grpSpPr>
          <a:xfrm>
            <a:off x="1128600" y="1522800"/>
            <a:ext cx="6962040" cy="3719160"/>
            <a:chOff x="1128600" y="1522800"/>
            <a:chExt cx="6962040" cy="3719160"/>
          </a:xfrm>
        </p:grpSpPr>
        <p:pic>
          <p:nvPicPr>
            <p:cNvPr id="199" name="Picture 5" descr="Ath-byage"/>
            <p:cNvPicPr/>
            <p:nvPr/>
          </p:nvPicPr>
          <p:blipFill>
            <a:blip r:embed="rId1"/>
            <a:srcRect l="1464" t="2972" r="16287" b="2972"/>
            <a:stretch/>
          </p:blipFill>
          <p:spPr>
            <a:xfrm>
              <a:off x="1128600" y="1628640"/>
              <a:ext cx="5708880" cy="361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Rectangle 6"/>
            <p:cNvSpPr/>
            <p:nvPr/>
          </p:nvSpPr>
          <p:spPr>
            <a:xfrm>
              <a:off x="1769040" y="1522800"/>
              <a:ext cx="4969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bsolute thresholds of hearing by age in males and femal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8"/>
            <p:cNvSpPr/>
            <p:nvPr/>
          </p:nvSpPr>
          <p:spPr>
            <a:xfrm>
              <a:off x="6599160" y="380844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cc"/>
                  </a:solidFill>
                  <a:latin typeface="Arial"/>
                </a:rPr>
                <a:t>Male, Age 2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Text Box 9"/>
            <p:cNvSpPr/>
            <p:nvPr/>
          </p:nvSpPr>
          <p:spPr>
            <a:xfrm>
              <a:off x="6599160" y="351648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cc00"/>
                  </a:solidFill>
                  <a:latin typeface="Arial"/>
                </a:rPr>
                <a:t>Male, Age 3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Text Box 10"/>
            <p:cNvSpPr/>
            <p:nvPr/>
          </p:nvSpPr>
          <p:spPr>
            <a:xfrm>
              <a:off x="6599160" y="305928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"/>
                </a:rPr>
                <a:t>Male, Age 4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1"/>
            <p:cNvSpPr/>
            <p:nvPr/>
          </p:nvSpPr>
          <p:spPr>
            <a:xfrm>
              <a:off x="6599160" y="252576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Arial"/>
                </a:rPr>
                <a:t>Male, Age 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 Box 12"/>
            <p:cNvSpPr/>
            <p:nvPr/>
          </p:nvSpPr>
          <p:spPr>
            <a:xfrm>
              <a:off x="6624360" y="1814400"/>
              <a:ext cx="126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66"/>
                  </a:solidFill>
                  <a:latin typeface="Arial"/>
                </a:rPr>
                <a:t>Male, Age 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 Box 13"/>
            <p:cNvSpPr/>
            <p:nvPr/>
          </p:nvSpPr>
          <p:spPr>
            <a:xfrm>
              <a:off x="6611400" y="2805120"/>
              <a:ext cx="1479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emale, Age 6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earing Los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95360" y="3614400"/>
            <a:ext cx="510552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ir cells that respond to high frequency sound are very vulnerable to destruction, and loss of these neurons typically produces difficulty understanding human voi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of this type of permanent hearing loss is avoidable by reducing exposure, such as to loud mus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bush%20hearing%20Reuters"/>
          <p:cNvPicPr/>
          <p:nvPr/>
        </p:nvPicPr>
        <p:blipFill>
          <a:blip r:embed="rId1"/>
          <a:stretch/>
        </p:blipFill>
        <p:spPr>
          <a:xfrm>
            <a:off x="5611680" y="3497400"/>
            <a:ext cx="3208320" cy="291132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6"/>
          <p:cNvSpPr/>
          <p:nvPr/>
        </p:nvSpPr>
        <p:spPr>
          <a:xfrm>
            <a:off x="571680" y="13208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hair cells that line the cochlea are a delicate and vulnerable part of the ear. Repeated or sustained exposure to loud noise destroys the neurons of the Organ of Cort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destroyed, the hair cells are not replaced, and the sound frequencies interpreted by them are no longer hea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6855120" y="531972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Wha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6B8CB-4D23-4A70-B6B4-3F61521370CB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Physics 1 (Garcia) SJ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peed of Sound in Ai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91120" cy="48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ed of sound in air is about 340 m/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 travels about one kilometer in three seconds, about one mile in five seco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s a million times faster than 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5" descr="lightning"/>
          <p:cNvPicPr/>
          <p:nvPr/>
        </p:nvPicPr>
        <p:blipFill>
          <a:blip r:embed="rId1"/>
          <a:stretch/>
        </p:blipFill>
        <p:spPr>
          <a:xfrm>
            <a:off x="4722840" y="1940040"/>
            <a:ext cx="400356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20AC7-625D-4C6F-8BFD-AA1D2A62078B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Physics 1 (Garcia) SJ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Helium Voi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510920"/>
            <a:ext cx="5829480" cy="35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 speed in helium is higher than speed in a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velength of sound unchanged (size of vocal cords is unchange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quency of voice is higher si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HeliumBalloon"/>
          <p:cNvPicPr/>
          <p:nvPr/>
        </p:nvPicPr>
        <p:blipFill>
          <a:blip r:embed="rId1"/>
          <a:stretch/>
        </p:blipFill>
        <p:spPr>
          <a:xfrm>
            <a:off x="5915160" y="1898640"/>
            <a:ext cx="2681280" cy="1893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B-Donald"/>
          <p:cNvPicPr/>
          <p:nvPr/>
        </p:nvPicPr>
        <p:blipFill>
          <a:blip r:embed="rId2"/>
          <a:stretch/>
        </p:blipFill>
        <p:spPr>
          <a:xfrm>
            <a:off x="6283440" y="3935520"/>
            <a:ext cx="2368440" cy="21747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6"/>
          <p:cNvSpPr/>
          <p:nvPr/>
        </p:nvSpPr>
        <p:spPr>
          <a:xfrm>
            <a:off x="6374520" y="26398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7428600" y="392256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Talk like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8"/>
          <p:cNvSpPr/>
          <p:nvPr/>
        </p:nvSpPr>
        <p:spPr>
          <a:xfrm>
            <a:off x="3040200" y="5402160"/>
            <a:ext cx="2997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3176280" y="4834080"/>
            <a:ext cx="27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ave spe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3207240" y="5346720"/>
            <a:ext cx="259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Waveleng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1"/>
          <p:cNvSpPr/>
          <p:nvPr/>
        </p:nvSpPr>
        <p:spPr>
          <a:xfrm>
            <a:off x="302400" y="5122800"/>
            <a:ext cx="272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requency)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2"/>
          <p:cNvSpPr/>
          <p:nvPr/>
        </p:nvSpPr>
        <p:spPr>
          <a:xfrm>
            <a:off x="5905440" y="189072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th Helium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3C55A-52EC-40E8-98FB-672628070DC2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Physics 1 (Garcia) SJ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7" descr="January%202004%20Quiet%20800"/>
          <p:cNvPicPr/>
          <p:nvPr/>
        </p:nvPicPr>
        <p:blipFill>
          <a:blip r:embed="rId1"/>
          <a:stretch/>
        </p:blipFill>
        <p:spPr>
          <a:xfrm>
            <a:off x="723960" y="2933640"/>
            <a:ext cx="4284720" cy="321300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flection of Soun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51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 reflects strongly from rigid surf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er surfaces absorb 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5407200" y="3236760"/>
            <a:ext cx="3295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Quiet after a fresh snowfall because the soft, irregular surface of the snow absorbs sound instead of reflecting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8B24-811B-4270-BB23-81F112458715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Physics 1 (Garcia) SJ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heck 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Y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rself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rowded, which restaurant will be quiet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restaurant_south_side"/>
          <p:cNvPicPr/>
          <p:nvPr/>
        </p:nvPicPr>
        <p:blipFill>
          <a:blip r:embed="rId1"/>
          <a:stretch/>
        </p:blipFill>
        <p:spPr>
          <a:xfrm>
            <a:off x="1378080" y="2297160"/>
            <a:ext cx="3200400" cy="33861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Windstar%20Restaurant%20in%20Use"/>
          <p:cNvPicPr/>
          <p:nvPr/>
        </p:nvPicPr>
        <p:blipFill>
          <a:blip r:embed="rId2"/>
          <a:stretch/>
        </p:blipFill>
        <p:spPr>
          <a:xfrm>
            <a:off x="4754520" y="2314440"/>
            <a:ext cx="293688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87AE-1480-460D-9993-EB60B35FDEFE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Physics 1 (Garcia) SJ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inging in the Show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6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reflections from the hard walls create reverbe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r your voice from several sources, slightly shifted i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erberation extends each note and smears (smoothens) the pit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" descr="bigShower2"/>
          <p:cNvPicPr/>
          <p:nvPr/>
        </p:nvPicPr>
        <p:blipFill>
          <a:blip r:embed="rId1"/>
          <a:stretch/>
        </p:blipFill>
        <p:spPr>
          <a:xfrm>
            <a:off x="5251320" y="1832040"/>
            <a:ext cx="3097440" cy="32954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6"/>
          <p:cNvSpPr/>
          <p:nvPr/>
        </p:nvSpPr>
        <p:spPr>
          <a:xfrm>
            <a:off x="5318280" y="5192640"/>
            <a:ext cx="313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Your voice sounds better when singing in the sh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0CF41-1606-41E4-9B5A-6E961CA8751B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Physics 1 (Garcia) SJ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fraction of Soun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 speed can vary by material or 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auses the sound to bend in direction, in the same way that light bends when it passes through a glass le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3491280" y="47991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. 2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9" descr="20-08Figure_FIG"/>
          <p:cNvPicPr/>
          <p:nvPr/>
        </p:nvPicPr>
        <p:blipFill>
          <a:blip r:embed="rId1"/>
          <a:stretch/>
        </p:blipFill>
        <p:spPr>
          <a:xfrm>
            <a:off x="1282680" y="3483000"/>
            <a:ext cx="669276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416A0-60A5-4F36-9F10-97763C5ADE64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Physics 1 (Garcia) SJ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5" descr="ultrasound_side"/>
          <p:cNvPicPr/>
          <p:nvPr/>
        </p:nvPicPr>
        <p:blipFill>
          <a:blip r:embed="rId1"/>
          <a:stretch/>
        </p:blipFill>
        <p:spPr>
          <a:xfrm>
            <a:off x="5060880" y="3500280"/>
            <a:ext cx="3987720" cy="300672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ltrasoun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68280" y="1600200"/>
            <a:ext cx="516888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ltrasound is high frequency (Megahertz), short waveleng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0.1 mm) s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lections and refractions of ultrasound by flesh and bone allow “seeing” inside the human bo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ultrasound"/>
          <p:cNvPicPr/>
          <p:nvPr/>
        </p:nvPicPr>
        <p:blipFill>
          <a:blip r:embed="rId2"/>
          <a:stretch/>
        </p:blipFill>
        <p:spPr>
          <a:xfrm>
            <a:off x="5987880" y="1430280"/>
            <a:ext cx="2857680" cy="18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C39E-D122-4897-9EE5-926FC4040ED3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Physics 1 (Garcia) SJ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orced Vib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brating guitar strings force the vibration of the guitar’s body, producing most of the sou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5" descr="interference"/>
          <p:cNvPicPr/>
          <p:nvPr/>
        </p:nvPicPr>
        <p:blipFill>
          <a:blip r:embed="rId1"/>
          <a:stretch/>
        </p:blipFill>
        <p:spPr>
          <a:xfrm>
            <a:off x="3860640" y="2847960"/>
            <a:ext cx="4589640" cy="324324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6"/>
          <p:cNvSpPr/>
          <p:nvPr/>
        </p:nvSpPr>
        <p:spPr>
          <a:xfrm>
            <a:off x="5168160" y="295740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553 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8" descr="6t%20002"/>
          <p:cNvPicPr/>
          <p:nvPr/>
        </p:nvPicPr>
        <p:blipFill>
          <a:blip r:embed="rId2"/>
          <a:stretch/>
        </p:blipFill>
        <p:spPr>
          <a:xfrm>
            <a:off x="876240" y="2827440"/>
            <a:ext cx="2809800" cy="374652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9"/>
          <p:cNvSpPr/>
          <p:nvPr/>
        </p:nvSpPr>
        <p:spPr>
          <a:xfrm>
            <a:off x="7471440" y="29113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be0e3"/>
                </a:solidFill>
                <a:latin typeface="Arial"/>
              </a:rPr>
              <a:t>731 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0"/>
          <p:cNvSpPr/>
          <p:nvPr/>
        </p:nvSpPr>
        <p:spPr>
          <a:xfrm>
            <a:off x="4327560" y="5878440"/>
            <a:ext cx="3867120" cy="6426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rcular rings indicate where the surface is vibrating up and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ceptual Physics  Chapter 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8A62-A2CC-4208-92F2-F04BBCFFACF8}" type="slidenum">
              <a:rPr b="0" lang="en-US" sz="1400" spc="-1" strike="noStrike">
                <a:solidFill>
                  <a:srgbClr val="cc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tuningforktube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857240" y="3933720"/>
            <a:ext cx="5429520" cy="17812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Origin of Soun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ound waves are produced by the vibration of a material object. E.g., the reed of a saxophone, the string of a guitar or the tines of a tuning f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 waves a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ngitudi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ves that transport acoustic energy through a medium by particle-to-particle interactions between neighboring molecules as they oscillate back and for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requency of the sound wave produced is equal to the frequency of the vibrating sour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9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5763-ECF2-4D05-AA4B-6A89D6C6526B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Physics 1 (Garcia) SJ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: Tuning Fork &amp; Sound Box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ning fork by itself is not very lou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nd is much louder if it is held against a sound box, such as the body of a guitar or any similar rigid surf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uning fork forces the surface into oscillation at the same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6" descr="6t%20002"/>
          <p:cNvPicPr/>
          <p:nvPr/>
        </p:nvPicPr>
        <p:blipFill>
          <a:blip r:embed="rId1"/>
          <a:stretch/>
        </p:blipFill>
        <p:spPr>
          <a:xfrm>
            <a:off x="4878360" y="3841920"/>
            <a:ext cx="3746520" cy="28098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0" descr="h4-23"/>
          <p:cNvPicPr/>
          <p:nvPr/>
        </p:nvPicPr>
        <p:blipFill>
          <a:blip r:embed="rId2"/>
          <a:srcRect l="0" t="0" r="0" b="9449"/>
          <a:stretch/>
        </p:blipFill>
        <p:spPr>
          <a:xfrm>
            <a:off x="5803920" y="1866960"/>
            <a:ext cx="3048120" cy="20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8DC3-27C0-47BA-9414-1222116D7865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Physics 1 (Garcia) SJ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7" descr="pipewrench_00"/>
          <p:cNvPicPr/>
          <p:nvPr/>
        </p:nvPicPr>
        <p:blipFill>
          <a:blip r:embed="rId1"/>
          <a:stretch/>
        </p:blipFill>
        <p:spPr>
          <a:xfrm rot="1326000">
            <a:off x="5670720" y="3479760"/>
            <a:ext cx="2838240" cy="28386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Natural Frequenc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2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l wrench and wooden bat sound very different when dropped to the flo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materials and shapes vibrate at their own natural frequenc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5" descr="pr-Baseball-Akadema_Precision_Series_AKA_Wood_Bat_A881-resized200"/>
          <p:cNvPicPr/>
          <p:nvPr/>
        </p:nvPicPr>
        <p:blipFill>
          <a:blip r:embed="rId2"/>
          <a:stretch/>
        </p:blipFill>
        <p:spPr>
          <a:xfrm>
            <a:off x="4559400" y="1638360"/>
            <a:ext cx="269244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9D5DD-07FA-4E20-A2FB-1929D266E834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Physics 1 (Garcia) SJ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Singing Ro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king an aluminum rod with rosin-covered fingers induces loud vibrations at the rod’s natural frequ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5" descr="3D4020"/>
          <p:cNvPicPr/>
          <p:nvPr/>
        </p:nvPicPr>
        <p:blipFill>
          <a:blip r:embed="rId1"/>
          <a:stretch/>
        </p:blipFill>
        <p:spPr>
          <a:xfrm>
            <a:off x="4915080" y="2647800"/>
            <a:ext cx="4025880" cy="35560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7" descr="3d40-20"/>
          <p:cNvPicPr/>
          <p:nvPr/>
        </p:nvPicPr>
        <p:blipFill>
          <a:blip r:embed="rId2"/>
          <a:stretch/>
        </p:blipFill>
        <p:spPr>
          <a:xfrm>
            <a:off x="1025640" y="4229280"/>
            <a:ext cx="3359160" cy="21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F239-7F7E-4594-B9D7-2DD9C16DCDD6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Physics 1 (Garcia) SJ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sonan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5760" y="1396800"/>
            <a:ext cx="8394840" cy="19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nance occurs when forced vibrations match an object’s natural frequ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cillations grow in amplitude due to synchronized transfer of energy into the vibrating obje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7" descr="A swing resonance"/>
          <p:cNvPicPr/>
          <p:nvPr/>
        </p:nvPicPr>
        <p:blipFill>
          <a:blip r:embed="rId1"/>
          <a:stretch/>
        </p:blipFill>
        <p:spPr>
          <a:xfrm>
            <a:off x="4102200" y="3468600"/>
            <a:ext cx="2882880" cy="26082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9" descr="Push"/>
          <p:cNvPicPr/>
          <p:nvPr/>
        </p:nvPicPr>
        <p:blipFill>
          <a:blip r:embed="rId2"/>
          <a:stretch/>
        </p:blipFill>
        <p:spPr>
          <a:xfrm>
            <a:off x="1301760" y="3257640"/>
            <a:ext cx="2095560" cy="29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coustic Resonan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13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at an object’s natural frequency can produce resonant vibra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7" descr="x_10"/>
          <p:cNvPicPr/>
          <p:nvPr/>
        </p:nvPicPr>
        <p:blipFill>
          <a:blip r:embed="rId1"/>
          <a:stretch/>
        </p:blipFill>
        <p:spPr>
          <a:xfrm>
            <a:off x="4770360" y="3025800"/>
            <a:ext cx="3960720" cy="348624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9"/>
          <p:cNvSpPr/>
          <p:nvPr/>
        </p:nvSpPr>
        <p:spPr>
          <a:xfrm>
            <a:off x="365040" y="3097080"/>
            <a:ext cx="4222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amplitude of the sound is sufficiently large, resonant vibrations can shatter a wine gl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shown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yth Bust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is may even be achieved by exceptionally powerful singers (and by average singers using electronic amplifier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ceptual Physics  Chapter 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F20DD-3A76-4899-B534-27DE6E36CD65}" type="slidenum">
              <a:rPr b="0" lang="en-US" sz="1400" spc="-1" strike="noStrike">
                <a:solidFill>
                  <a:srgbClr val="cc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a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wo sound waves differing slightly in frequency are superimposed they will not maintain a constant phase relations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leads to alternating reinforcement and cancellation of the sound ener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e audible result is a series of pulsations called bea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4" descr="beats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886040" y="4267080"/>
            <a:ext cx="5429160" cy="1457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speake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33840" y="4343400"/>
            <a:ext cx="836280" cy="38736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" descr="speaker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733840" y="4835520"/>
            <a:ext cx="836280" cy="3873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7" descr="speaker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733840" y="5327640"/>
            <a:ext cx="838080" cy="38736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8"/>
          <p:cNvSpPr/>
          <p:nvPr/>
        </p:nvSpPr>
        <p:spPr>
          <a:xfrm>
            <a:off x="3581280" y="441900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400 &amp; 401 Hz sounds – 1 beat per 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9"/>
          <p:cNvSpPr/>
          <p:nvPr/>
        </p:nvSpPr>
        <p:spPr>
          <a:xfrm>
            <a:off x="3581280" y="4914360"/>
            <a:ext cx="472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400 &amp; 403 Hz sounds – 3 beats per 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3581280" y="527220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</a:rPr>
              <a:t>400 &amp; 410 Hz sounds – 10 beats per 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ceptual Physics  Chapter 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3D458-CC73-4C98-A7DA-F744509E911C}" type="slidenum">
              <a:rPr b="0" lang="en-US" sz="1400" spc="-1" strike="noStrike">
                <a:solidFill>
                  <a:srgbClr val="cc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5" descr="super4"/>
          <p:cNvPicPr/>
          <p:nvPr/>
        </p:nvPicPr>
        <p:blipFill>
          <a:blip r:embed="rId1"/>
          <a:stretch/>
        </p:blipFill>
        <p:spPr>
          <a:xfrm>
            <a:off x="3200400" y="259092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a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attern of alternating constructive and destructive interference can be found from applying the law of superposition to the interfering w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ceptual Physics  Chapter 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B684-7550-41C5-BFCD-DE1EBB5B97A6}" type="slidenum">
              <a:rPr b="0" lang="en-US" sz="1400" spc="-1" strike="noStrike">
                <a:solidFill>
                  <a:srgbClr val="cc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a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ats can occur with any kind of wave and are a practical way to compare frequenc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une a piano, a piano tuner listens for beats produced between a standard tuning fork and a particular string on the pia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frequencies are identical, the beats disappe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mbers of an orchestra tune up by listening for beats between their instruments and a standard t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9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9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900" fill="hold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900" fill="hold"/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4CCC-5DF3-44DF-93E9-19EEAC6E1FD4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Physics 1 (Garcia) SJ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acoma Narrows Bridg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40, the first Tacoma Narrows bridge was destroyed by reson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5" descr="Tacoma-320x500"/>
          <p:cNvPicPr/>
          <p:nvPr/>
        </p:nvPicPr>
        <p:blipFill>
          <a:blip r:embed="rId1"/>
          <a:stretch/>
        </p:blipFill>
        <p:spPr>
          <a:xfrm>
            <a:off x="4151160" y="2933640"/>
            <a:ext cx="4643640" cy="29718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9" descr="narrows01"/>
          <p:cNvPicPr/>
          <p:nvPr/>
        </p:nvPicPr>
        <p:blipFill>
          <a:blip r:embed="rId2"/>
          <a:stretch/>
        </p:blipFill>
        <p:spPr>
          <a:xfrm>
            <a:off x="361800" y="2946240"/>
            <a:ext cx="4400640" cy="293400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10"/>
          <p:cNvSpPr/>
          <p:nvPr/>
        </p:nvSpPr>
        <p:spPr>
          <a:xfrm>
            <a:off x="2742120" y="506556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rst B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1"/>
          <p:cNvSpPr/>
          <p:nvPr/>
        </p:nvSpPr>
        <p:spPr>
          <a:xfrm>
            <a:off x="6951960" y="5489640"/>
            <a:ext cx="167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B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893E-46B0-45A7-84FF-9D04E5E100E4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Physics 1 (Garcia) SJ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ovie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Tacoma Narrows Bridg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28" name="TACOMABRIDGEqt.avi" descr=""/>
          <p:cNvPicPr/>
          <p:nvPr/>
        </p:nvPicPr>
        <p:blipFill>
          <a:blip r:embed="rId2"/>
          <a:stretch/>
        </p:blipFill>
        <p:spPr>
          <a:xfrm>
            <a:off x="1498680" y="1550880"/>
            <a:ext cx="59436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214" nodeType="clickEffect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7" dur="1" fill="hold"/>
                                        <p:tgtEl>
                                          <p:spTgt spid="3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ceptual Physics  Chapter 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F743-8D04-4F69-8F87-AD182477B604}" type="slidenum">
              <a:rPr b="0" lang="en-US" sz="1400" spc="-1" strike="noStrike">
                <a:solidFill>
                  <a:srgbClr val="cc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Origin of Soun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ransmission of sound requires a medium. There may be vibrations, but if there is nothing to compress and expand, there can be no sou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 waves can propagate through solids, liquids and gases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can not travel through a vacu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3399"/>
                </a:solidFill>
                <a:latin typeface="Arial"/>
              </a:rPr>
              <a:t>Chapter 21</a:t>
            </a:r>
            <a:endParaRPr b="0" lang="en-US" sz="9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Musical Sound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Noise Versus Music</a:t>
            </a:r>
            <a:endParaRPr b="0" lang="en-US" sz="6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is the difference between noise and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  The appearance of the wave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8233200" y="6521400"/>
            <a:ext cx="9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ic&amp;O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5" descr="Noise and Music"/>
          <p:cNvPicPr/>
          <p:nvPr/>
        </p:nvPicPr>
        <p:blipFill>
          <a:blip r:embed="rId1"/>
          <a:srcRect l="0" t="48906" r="0" b="0"/>
          <a:stretch/>
        </p:blipFill>
        <p:spPr>
          <a:xfrm>
            <a:off x="685800" y="3581280"/>
            <a:ext cx="7696080" cy="12463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6" descr="Noise and Music"/>
          <p:cNvPicPr/>
          <p:nvPr/>
        </p:nvPicPr>
        <p:blipFill>
          <a:blip r:embed="rId2"/>
          <a:srcRect l="0" t="0" r="0" b="53333"/>
          <a:stretch/>
        </p:blipFill>
        <p:spPr>
          <a:xfrm>
            <a:off x="685800" y="4952880"/>
            <a:ext cx="769608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7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2" dur="5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7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2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Pitch...</a:t>
            </a:r>
            <a:endParaRPr b="0" lang="en-US" sz="6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the "highness" or "lowness" of a t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tch corresponds to frequenc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cert 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on the Musical Scale has a frequency of 440 Hert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4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9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9" dur="5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ound Intensity and Loudnes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tensity of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fers to the amplitude of the pressure variations in the sound w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6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1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6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oudnes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hysiological sensation directly related to the sound inten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asured in bels (1bels = 10 decibels)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0 log(I/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6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6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mo – Sound M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0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8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4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be0e3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609120" y="13716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ource of Sound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udness (d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eshold of Hear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vers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r Damage Begin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plified Musi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t Airplane at 30 meter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1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6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1" dur="5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6" dur="5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1" dur="5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6" dur="5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ommon Sound Intensit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3124080" y="8380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533520" y="1081080"/>
          <a:ext cx="8076960" cy="4694400"/>
        </p:xfrm>
        <a:graphic>
          <a:graphicData uri="http://schemas.openxmlformats.org/drawingml/2006/table">
            <a:tbl>
              <a:tblPr/>
              <a:tblGrid>
                <a:gridCol w="2971800"/>
                <a:gridCol w="2412720"/>
                <a:gridCol w="269244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6" name="Text Box 56"/>
          <p:cNvSpPr/>
          <p:nvPr/>
        </p:nvSpPr>
        <p:spPr>
          <a:xfrm>
            <a:off x="852120" y="1069920"/>
            <a:ext cx="233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Source of So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7"/>
          <p:cNvSpPr/>
          <p:nvPr/>
        </p:nvSpPr>
        <p:spPr>
          <a:xfrm>
            <a:off x="1584360" y="6357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58"/>
          <p:cNvSpPr/>
          <p:nvPr/>
        </p:nvSpPr>
        <p:spPr>
          <a:xfrm>
            <a:off x="3447000" y="1058760"/>
            <a:ext cx="2524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Intensity, I (W/m</a:t>
            </a:r>
            <a:r>
              <a:rPr b="0" lang="en-US" sz="2200" spc="-1" strike="noStrike" baseline="30000">
                <a:solidFill>
                  <a:srgbClr val="009999"/>
                </a:solidFill>
                <a:latin typeface="Tahoma"/>
              </a:rPr>
              <a:t>2</a:t>
            </a: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59"/>
          <p:cNvSpPr/>
          <p:nvPr/>
        </p:nvSpPr>
        <p:spPr>
          <a:xfrm>
            <a:off x="5926320" y="1074600"/>
            <a:ext cx="265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Sound Level, </a:t>
            </a:r>
            <a:r>
              <a:rPr b="0" lang="en-US" sz="2200" spc="-1" strike="noStrike">
                <a:solidFill>
                  <a:srgbClr val="009999"/>
                </a:solidFill>
                <a:latin typeface="Symbol"/>
                <a:ea typeface="Symbol"/>
              </a:rPr>
              <a:t></a:t>
            </a: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 (db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60"/>
          <p:cNvSpPr/>
          <p:nvPr/>
        </p:nvSpPr>
        <p:spPr>
          <a:xfrm>
            <a:off x="548640" y="1504800"/>
            <a:ext cx="2964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Threshold of Hea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61"/>
          <p:cNvSpPr/>
          <p:nvPr/>
        </p:nvSpPr>
        <p:spPr>
          <a:xfrm>
            <a:off x="4100400" y="1504800"/>
            <a:ext cx="12319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I</a:t>
            </a:r>
            <a:r>
              <a:rPr b="0" lang="en-US" sz="2200" spc="-1" strike="noStrike" baseline="-25000">
                <a:solidFill>
                  <a:srgbClr val="009999"/>
                </a:solidFill>
                <a:latin typeface="Tahoma"/>
              </a:rPr>
              <a:t>0</a:t>
            </a: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 = 10</a:t>
            </a:r>
            <a:r>
              <a:rPr b="0" lang="en-US" sz="2200" spc="-1" strike="noStrike" baseline="30000">
                <a:solidFill>
                  <a:srgbClr val="009999"/>
                </a:solidFill>
                <a:latin typeface="Tahoma"/>
              </a:rPr>
              <a:t>-1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62"/>
          <p:cNvSpPr/>
          <p:nvPr/>
        </p:nvSpPr>
        <p:spPr>
          <a:xfrm>
            <a:off x="7095600" y="1504800"/>
            <a:ext cx="34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63"/>
          <p:cNvSpPr/>
          <p:nvPr/>
        </p:nvSpPr>
        <p:spPr>
          <a:xfrm>
            <a:off x="7015680" y="1930320"/>
            <a:ext cx="50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4"/>
          <p:cNvSpPr/>
          <p:nvPr/>
        </p:nvSpPr>
        <p:spPr>
          <a:xfrm>
            <a:off x="7015680" y="2344680"/>
            <a:ext cx="50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65"/>
          <p:cNvSpPr/>
          <p:nvPr/>
        </p:nvSpPr>
        <p:spPr>
          <a:xfrm>
            <a:off x="7025400" y="2776680"/>
            <a:ext cx="50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66"/>
          <p:cNvSpPr/>
          <p:nvPr/>
        </p:nvSpPr>
        <p:spPr>
          <a:xfrm>
            <a:off x="7015680" y="3203640"/>
            <a:ext cx="50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6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67"/>
          <p:cNvSpPr/>
          <p:nvPr/>
        </p:nvSpPr>
        <p:spPr>
          <a:xfrm>
            <a:off x="7015680" y="3625920"/>
            <a:ext cx="50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7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68"/>
          <p:cNvSpPr/>
          <p:nvPr/>
        </p:nvSpPr>
        <p:spPr>
          <a:xfrm>
            <a:off x="7015680" y="4041720"/>
            <a:ext cx="500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9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69"/>
          <p:cNvSpPr/>
          <p:nvPr/>
        </p:nvSpPr>
        <p:spPr>
          <a:xfrm>
            <a:off x="6945120" y="4476600"/>
            <a:ext cx="66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1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70"/>
          <p:cNvSpPr/>
          <p:nvPr/>
        </p:nvSpPr>
        <p:spPr>
          <a:xfrm>
            <a:off x="6951600" y="4902120"/>
            <a:ext cx="66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12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1"/>
          <p:cNvSpPr/>
          <p:nvPr/>
        </p:nvSpPr>
        <p:spPr>
          <a:xfrm>
            <a:off x="6946560" y="5335560"/>
            <a:ext cx="660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14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72"/>
          <p:cNvSpPr/>
          <p:nvPr/>
        </p:nvSpPr>
        <p:spPr>
          <a:xfrm>
            <a:off x="4369320" y="1927080"/>
            <a:ext cx="73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10</a:t>
            </a:r>
            <a:r>
              <a:rPr b="0" lang="en-US" sz="2200" spc="-1" strike="noStrike" baseline="30000">
                <a:solidFill>
                  <a:srgbClr val="009999"/>
                </a:solidFill>
                <a:latin typeface="Tahoma"/>
              </a:rPr>
              <a:t>-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73"/>
          <p:cNvSpPr/>
          <p:nvPr/>
        </p:nvSpPr>
        <p:spPr>
          <a:xfrm>
            <a:off x="4369320" y="2344680"/>
            <a:ext cx="73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10</a:t>
            </a:r>
            <a:r>
              <a:rPr b="0" lang="en-US" sz="2200" spc="-1" strike="noStrike" baseline="30000">
                <a:solidFill>
                  <a:srgbClr val="009999"/>
                </a:solidFill>
                <a:latin typeface="Tahoma"/>
              </a:rPr>
              <a:t>-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4"/>
          <p:cNvSpPr/>
          <p:nvPr/>
        </p:nvSpPr>
        <p:spPr>
          <a:xfrm>
            <a:off x="4406400" y="2776680"/>
            <a:ext cx="64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10</a:t>
            </a:r>
            <a:r>
              <a:rPr b="0" lang="en-US" sz="2200" spc="-1" strike="noStrike" baseline="30000">
                <a:solidFill>
                  <a:srgbClr val="009999"/>
                </a:solidFill>
                <a:latin typeface="Tahoma"/>
              </a:rPr>
              <a:t>-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75"/>
          <p:cNvSpPr/>
          <p:nvPr/>
        </p:nvSpPr>
        <p:spPr>
          <a:xfrm>
            <a:off x="4407840" y="3200400"/>
            <a:ext cx="64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10</a:t>
            </a:r>
            <a:r>
              <a:rPr b="0" lang="en-US" sz="2200" spc="-1" strike="noStrike" baseline="30000">
                <a:solidFill>
                  <a:srgbClr val="009999"/>
                </a:solidFill>
                <a:latin typeface="Tahoma"/>
              </a:rPr>
              <a:t>-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76"/>
          <p:cNvSpPr/>
          <p:nvPr/>
        </p:nvSpPr>
        <p:spPr>
          <a:xfrm>
            <a:off x="4406400" y="3625920"/>
            <a:ext cx="64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10</a:t>
            </a:r>
            <a:r>
              <a:rPr b="0" lang="en-US" sz="2200" spc="-1" strike="noStrike" baseline="30000">
                <a:solidFill>
                  <a:srgbClr val="009999"/>
                </a:solidFill>
                <a:latin typeface="Tahoma"/>
              </a:rPr>
              <a:t>-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77"/>
          <p:cNvSpPr/>
          <p:nvPr/>
        </p:nvSpPr>
        <p:spPr>
          <a:xfrm>
            <a:off x="4407840" y="4040280"/>
            <a:ext cx="64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10</a:t>
            </a:r>
            <a:r>
              <a:rPr b="0" lang="en-US" sz="2200" spc="-1" strike="noStrike" baseline="30000">
                <a:solidFill>
                  <a:srgbClr val="009999"/>
                </a:solidFill>
                <a:latin typeface="Tahoma"/>
              </a:rPr>
              <a:t>-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78"/>
          <p:cNvSpPr/>
          <p:nvPr/>
        </p:nvSpPr>
        <p:spPr>
          <a:xfrm>
            <a:off x="4407840" y="4473720"/>
            <a:ext cx="645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10</a:t>
            </a:r>
            <a:r>
              <a:rPr b="0" lang="en-US" sz="2200" spc="-1" strike="noStrike" baseline="30000">
                <a:solidFill>
                  <a:srgbClr val="009999"/>
                </a:solidFill>
                <a:latin typeface="Tahoma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79"/>
          <p:cNvSpPr/>
          <p:nvPr/>
        </p:nvSpPr>
        <p:spPr>
          <a:xfrm>
            <a:off x="4549320" y="4900680"/>
            <a:ext cx="340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80"/>
          <p:cNvSpPr/>
          <p:nvPr/>
        </p:nvSpPr>
        <p:spPr>
          <a:xfrm>
            <a:off x="4430880" y="5324400"/>
            <a:ext cx="59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10</a:t>
            </a:r>
            <a:r>
              <a:rPr b="0" lang="en-US" sz="2200" spc="-1" strike="noStrike" baseline="30000">
                <a:solidFill>
                  <a:srgbClr val="009999"/>
                </a:solidFill>
                <a:latin typeface="Tahoma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81"/>
          <p:cNvSpPr/>
          <p:nvPr/>
        </p:nvSpPr>
        <p:spPr>
          <a:xfrm>
            <a:off x="868320" y="1928880"/>
            <a:ext cx="2294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Rustle of Lea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82"/>
          <p:cNvSpPr/>
          <p:nvPr/>
        </p:nvSpPr>
        <p:spPr>
          <a:xfrm>
            <a:off x="1396800" y="2340000"/>
            <a:ext cx="126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Whis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83"/>
          <p:cNvSpPr/>
          <p:nvPr/>
        </p:nvSpPr>
        <p:spPr>
          <a:xfrm>
            <a:off x="570240" y="2776680"/>
            <a:ext cx="2901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Quiet Radio in H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84"/>
          <p:cNvSpPr/>
          <p:nvPr/>
        </p:nvSpPr>
        <p:spPr>
          <a:xfrm>
            <a:off x="455400" y="3203640"/>
            <a:ext cx="310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Conversation in H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85"/>
          <p:cNvSpPr/>
          <p:nvPr/>
        </p:nvSpPr>
        <p:spPr>
          <a:xfrm>
            <a:off x="740520" y="3627360"/>
            <a:ext cx="256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Busy Street Traff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86"/>
          <p:cNvSpPr/>
          <p:nvPr/>
        </p:nvSpPr>
        <p:spPr>
          <a:xfrm>
            <a:off x="1466640" y="404172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Rive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87"/>
          <p:cNvSpPr/>
          <p:nvPr/>
        </p:nvSpPr>
        <p:spPr>
          <a:xfrm>
            <a:off x="491040" y="4476600"/>
            <a:ext cx="3056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Disco Music Amplifi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88"/>
          <p:cNvSpPr/>
          <p:nvPr/>
        </p:nvSpPr>
        <p:spPr>
          <a:xfrm>
            <a:off x="526680" y="4902120"/>
            <a:ext cx="2998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Air-raid Siren, Near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89"/>
          <p:cNvSpPr/>
          <p:nvPr/>
        </p:nvSpPr>
        <p:spPr>
          <a:xfrm>
            <a:off x="969840" y="5326200"/>
            <a:ext cx="208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9999"/>
                </a:solidFill>
                <a:latin typeface="Tahoma"/>
              </a:rPr>
              <a:t>Jet, 30 m A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nodeType="clickEffect" fill="hold">
                      <p:stCondLst>
                        <p:cond delay="indefinite"/>
                      </p:stCondLst>
                      <p:childTnLst>
                        <p:par>
                          <p:cTn id="5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/>
          </p:nvPr>
        </p:nvSpPr>
        <p:spPr>
          <a:xfrm>
            <a:off x="762120" y="838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u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ase the loudness by 10db and you increase the intensity by 1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ase the loudness by 20db and you increase the intensity by 1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0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5" dur="5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0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Quality...</a:t>
            </a:r>
            <a:endParaRPr b="0" lang="en-US" sz="6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the characteristic sound that allows us to distinguish between two musical instruments.  (a.k.a.  timb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artial Ton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one of the many frequencies present in a complex t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mo: Guitar String T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7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2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7" dur="500"/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2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undamental Frequ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owest frequency of v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k.a. the first harmon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armon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artial tone that is an integer multiple of the fundamental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9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4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9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4" dur="500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9" dur="500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ceptual Physics  Chapter 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DDEA8-384D-441F-9D43-047D65D695FD}" type="slidenum">
              <a:rPr b="0" lang="en-US" sz="1400" spc="-1" strike="noStrike">
                <a:solidFill>
                  <a:srgbClr val="cc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Origin of Soun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nd can be heard from the ringing bell when air is inside the jar, but not when the air is remo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CPPE-Ch26-3_p517-Vacuum"/>
          <p:cNvPicPr/>
          <p:nvPr/>
        </p:nvPicPr>
        <p:blipFill>
          <a:blip r:embed="rId1"/>
          <a:stretch/>
        </p:blipFill>
        <p:spPr>
          <a:xfrm>
            <a:off x="4572000" y="2819520"/>
            <a:ext cx="3390840" cy="2741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99"/>
                </a:solidFill>
                <a:latin typeface="Arial"/>
              </a:rPr>
              <a:t>Fourier Analysis...</a:t>
            </a:r>
            <a:endParaRPr b="0" lang="en-US" sz="6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a mathematical method that will resolve any periodic wave form into a series of simple sine wa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e Figure 21.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6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1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6" dur="500"/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Fourier"/>
          <p:cNvPicPr/>
          <p:nvPr/>
        </p:nvPicPr>
        <p:blipFill>
          <a:blip r:embed="rId1"/>
          <a:srcRect l="68602" t="59094" r="0" b="0"/>
          <a:stretch/>
        </p:blipFill>
        <p:spPr>
          <a:xfrm>
            <a:off x="5695920" y="3692520"/>
            <a:ext cx="1905120" cy="18702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Fourier"/>
          <p:cNvPicPr/>
          <p:nvPr/>
        </p:nvPicPr>
        <p:blipFill>
          <a:blip r:embed="rId2"/>
          <a:srcRect l="68602" t="0" r="0" b="50008"/>
          <a:stretch/>
        </p:blipFill>
        <p:spPr>
          <a:xfrm>
            <a:off x="5695920" y="1417680"/>
            <a:ext cx="1905120" cy="2286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Fourier"/>
          <p:cNvPicPr/>
          <p:nvPr/>
        </p:nvPicPr>
        <p:blipFill>
          <a:blip r:embed="rId3"/>
          <a:srcRect l="44589" t="59094" r="29498" b="0"/>
          <a:stretch/>
        </p:blipFill>
        <p:spPr>
          <a:xfrm>
            <a:off x="4248000" y="3695760"/>
            <a:ext cx="1571760" cy="186984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Fourier"/>
          <p:cNvPicPr/>
          <p:nvPr/>
        </p:nvPicPr>
        <p:blipFill>
          <a:blip r:embed="rId4"/>
          <a:srcRect l="44589" t="0" r="29498" b="50008"/>
          <a:stretch/>
        </p:blipFill>
        <p:spPr>
          <a:xfrm>
            <a:off x="4248000" y="1424160"/>
            <a:ext cx="1571760" cy="22860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Fourier"/>
          <p:cNvPicPr/>
          <p:nvPr/>
        </p:nvPicPr>
        <p:blipFill>
          <a:blip r:embed="rId5"/>
          <a:srcRect l="24007" t="59094" r="51451" b="0"/>
          <a:stretch/>
        </p:blipFill>
        <p:spPr>
          <a:xfrm>
            <a:off x="3006720" y="3695760"/>
            <a:ext cx="1488960" cy="18698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7" descr="Fourier"/>
          <p:cNvPicPr/>
          <p:nvPr/>
        </p:nvPicPr>
        <p:blipFill>
          <a:blip r:embed="rId6"/>
          <a:srcRect l="0" t="59094" r="74432" b="0"/>
          <a:stretch/>
        </p:blipFill>
        <p:spPr>
          <a:xfrm>
            <a:off x="1554120" y="3695760"/>
            <a:ext cx="1550880" cy="186984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8" descr="Fourier"/>
          <p:cNvPicPr/>
          <p:nvPr/>
        </p:nvPicPr>
        <p:blipFill>
          <a:blip r:embed="rId7"/>
          <a:srcRect l="0" t="0" r="74432" b="50008"/>
          <a:stretch/>
        </p:blipFill>
        <p:spPr>
          <a:xfrm>
            <a:off x="1557360" y="1424160"/>
            <a:ext cx="1550880" cy="228600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9">
            <a:hlinkClick r:id="" action="ppaction://hlinkshowjump?jump=previousslide"/>
          </p:cNvPr>
          <p:cNvSpPr/>
          <p:nvPr/>
        </p:nvSpPr>
        <p:spPr>
          <a:xfrm>
            <a:off x="4208760" y="611676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og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10" descr="Fourier"/>
          <p:cNvPicPr/>
          <p:nvPr/>
        </p:nvPicPr>
        <p:blipFill>
          <a:blip r:embed="rId8"/>
          <a:srcRect l="24007" t="1731" r="51451" b="50004"/>
          <a:stretch/>
        </p:blipFill>
        <p:spPr>
          <a:xfrm>
            <a:off x="3005280" y="1420920"/>
            <a:ext cx="1488960" cy="235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0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8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3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8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9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08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1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" name="Picture 2" descr="Composite Wave"/>
          <p:cNvPicPr/>
          <p:nvPr/>
        </p:nvPicPr>
        <p:blipFill>
          <a:blip r:embed="rId1"/>
          <a:stretch/>
        </p:blipFill>
        <p:spPr>
          <a:xfrm>
            <a:off x="952560" y="838080"/>
            <a:ext cx="7238880" cy="5186520"/>
          </a:xfrm>
          <a:prstGeom prst="rect">
            <a:avLst/>
          </a:prstGeom>
          <a:ln w="0">
            <a:noFill/>
          </a:ln>
        </p:spPr>
      </p:pic>
      <p:sp>
        <p:nvSpPr>
          <p:cNvPr id="396" name="Text Box 3">
            <a:hlinkClick r:id="" action="ppaction://hlinkshowjump?jump=previousslide"/>
          </p:cNvPr>
          <p:cNvSpPr/>
          <p:nvPr/>
        </p:nvSpPr>
        <p:spPr>
          <a:xfrm>
            <a:off x="4208760" y="611676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Frog"/>
              </a:rPr>
              <a:t>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0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Open Organ Pip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odes of Vibra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n Organ Pip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mo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s &amp; Anti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 Spinning T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3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8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1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4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7" dur="5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0" dur="500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3" dur="500"/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cc00"/>
                </a:solidFill>
                <a:latin typeface="Arial"/>
              </a:rPr>
              <a:t>Closed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 Organ Pipe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Modes of Vibration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osed Organ Pip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mon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ve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des &amp; Anti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e.g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Ruben’s Tube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Video expl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and Coke Bott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4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99cc00"/>
                </a:solidFill>
                <a:latin typeface="Arial"/>
              </a:rPr>
              <a:t>http://us.yhs4.search.yahoo.com/yhs/search;_ylt=A0oG7pj6cpJS6RgAo6IPxQt.;_ylc=X1MDMjExNDcwMDU1OQRfcgMyBGJjawMwa25sMTYxOTNpMGhzJTI2YiUzRDQlMjZkJTNEWkMyLmxYWnBZRUxtWmdfSHFWWGFGeVRxdGhxWTkuQll1ek1aSXctLSUyNnMlM0Q1NCUyNmklM0RWdnpQYWRFTDFCRFRzQUt5ZXlKQwRjc3JjcHZpZANnZUtINmtvRzd2d0tYcUV3VWprQ1BBNnd6alozTDFLU2N2b0FBZEpaBGZyAwRmcjIDc2ItdG9wBGdwcmlkA3prQy5PQ3hxUXl5a202bC5ncldXWUEEbXRlc3RpZANudWxsBG5fcnNsdAM4BG5fc3VnZwM0BG9yaWdpbgN1cy55aHM0LnNlYXJjaC55YWhvby5jb20EcG9zAzAEcHFzdHIDBHBxc3RybAMEcXN0cmwDMTcEcXVlcnkDcnViZW4gdHViZSB2aWRlbyAEdF9zdG1wAzEzODUzMjk0MTcxNDgEdnRlc3RpZANudWxs?p=ruben+tube+video+&amp;fr2=sb-top&amp;hspart=avg&amp;hsimp=yhs-fh_lsonsw&amp;param1=rVBNb8MgDP014UZlICRwyGFJFmlSD9M-tF0JJmmltckgjbZ_P6fSet5hAsGzeX42zx-xysq-62ojO93wBkzB87ptuWkbyxsrc901UBgjshIZVkIZiqQ1GgAYpspPICT7cOexCmd2Ir3CSbCDcgIhz0tUFn2JwuveO4kBDdfCao0IQ9DW5s643uihcEIJFcQQvOwl0oNiM6klN4Tx4iKyOVLA0lgBWytR7oAWtW4uMYbz8ujG8Pq0rw7LMmfKZXKgffpOwUV_2Ll13PnpRKmZeInu34c0f2Vq8EfMFGZSl_WfvCBim8nidC37tw-T4mYkSYYzYUyErv5S4KdrL_rI0uMx-Ylyc6RMchuVgAShuAAO23gUWLIB1HZoYqzEuJm21V7lbu5SJm2NYQOOHERMM-FPQvHSb_P0C93sOcQ1xIe2eqkl39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4"/>
              </a:spcBef>
              <a:buClr>
                <a:srgbClr val="99cc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99cc00"/>
                </a:solidFill>
                <a:latin typeface="Arial"/>
              </a:rPr>
              <a:t>-987fuXsIP0&amp;param2=browser_search_provider&amp;param3=dis_co&amp;type=dis_co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0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5" dur="5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8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1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4" dur="500"/>
                                        <p:tgtEl>
                                          <p:spTgt spid="4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7" dur="500"/>
                                        <p:tgtEl>
                                          <p:spTgt spid="4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0" dur="500"/>
                                        <p:tgtEl>
                                          <p:spTgt spid="4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3" dur="500"/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6" dur="500"/>
                                        <p:tgtEl>
                                          <p:spTgt spid="4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ceptual Physics  Chapter 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D56E-D6BC-4C6D-A1CE-34B3D6374599}" type="slidenum">
              <a:rPr b="0" lang="en-US" sz="1400" spc="-1" strike="noStrike">
                <a:solidFill>
                  <a:srgbClr val="cc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und in Ai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sound waves in a tub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prong of a tuning fork next to the tube moves toward the tube, a compression enters the tub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prong swings away, in the opposite direction, a rarefaction follows the compress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he source vibrates, a series of compressions and rarefactions is produc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CPPE-Ch26-2_p517-Tube"/>
          <p:cNvPicPr/>
          <p:nvPr/>
        </p:nvPicPr>
        <p:blipFill>
          <a:blip r:embed="rId1"/>
          <a:stretch/>
        </p:blipFill>
        <p:spPr>
          <a:xfrm>
            <a:off x="1828800" y="4535640"/>
            <a:ext cx="4800600" cy="1525320"/>
          </a:xfrm>
          <a:prstGeom prst="rect">
            <a:avLst/>
          </a:prstGeom>
          <a:ln w="0">
            <a:noFill/>
          </a:ln>
        </p:spPr>
      </p:pic>
    </p:spTree>
  </p:cSld>
  <p:transition>
    <p:cover dir="r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Conceptual Physics  Chapter 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AC00-E86F-4CE2-ADAF-63E2F49218F3}" type="slidenum">
              <a:rPr b="0" lang="en-US" sz="1400" spc="-1" strike="noStrike">
                <a:solidFill>
                  <a:srgbClr val="cc00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Decibel Sca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105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 range of intensities that can be detected by the human ear is very large, a logarithmic scale, based on powers of ten, is used to measure intensity levels.  This intensity level is measured in decibels (dB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50 dB sound is 100 times more intense than a 30 dB sound and 1000 times more intense than a 20 dB s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Chart illustrates relation between sound pressure in micropascal and decibel"/>
          <p:cNvPicPr/>
          <p:nvPr/>
        </p:nvPicPr>
        <p:blipFill>
          <a:blip r:embed="rId1"/>
          <a:stretch/>
        </p:blipFill>
        <p:spPr>
          <a:xfrm>
            <a:off x="5754600" y="1523880"/>
            <a:ext cx="2855880" cy="44197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Nature of Sound in Ai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 in air is a longitudinal wave created by compressions and rarefa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20-02Figure_FIG"/>
          <p:cNvPicPr/>
          <p:nvPr/>
        </p:nvPicPr>
        <p:blipFill>
          <a:blip r:embed="rId1"/>
          <a:stretch/>
        </p:blipFill>
        <p:spPr>
          <a:xfrm>
            <a:off x="685800" y="2749680"/>
            <a:ext cx="7797960" cy="2381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Lwave"/>
          <p:cNvPicPr/>
          <p:nvPr/>
        </p:nvPicPr>
        <p:blipFill>
          <a:blip r:embed="rId2"/>
          <a:stretch/>
        </p:blipFill>
        <p:spPr>
          <a:xfrm>
            <a:off x="2225520" y="5268960"/>
            <a:ext cx="481968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413C-9CC9-4BCE-95E7-1E06A4C162B3}" type="datetime5">
              <a:rPr b="0" lang="en-US" sz="1400" spc="-1" strike="noStrike">
                <a:solidFill>
                  <a:srgbClr val="000000"/>
                </a:solidFill>
                <a:latin typeface="Arial"/>
              </a:rPr>
              <a:t>Jul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Physics 1 (Garcia) SJ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99"/>
                </a:solidFill>
                <a:latin typeface="Arial"/>
              </a:rPr>
              <a:t>Demo</a:t>
            </a: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: Sound is not Win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sound, air molecules oscillate in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wind, air moves from place to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http://www.york.ac.uk/depts/chem/ugrad/prospect17.jpg"/>
          <p:cNvPicPr/>
          <p:nvPr/>
        </p:nvPicPr>
        <p:blipFill>
          <a:blip r:embed="rId1"/>
          <a:stretch/>
        </p:blipFill>
        <p:spPr>
          <a:xfrm>
            <a:off x="965160" y="3051000"/>
            <a:ext cx="4240080" cy="30085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5559480" y="3656160"/>
            <a:ext cx="2977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moke rings are not sound because the air moves from place to pl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2T01:48:54Z</dcterms:created>
  <dc:creator>Garcia</dc:creator>
  <dc:description/>
  <dc:language>en-US</dc:language>
  <cp:lastModifiedBy>walmart</cp:lastModifiedBy>
  <cp:lastPrinted>2013-11-24T23:38:28Z</cp:lastPrinted>
  <dcterms:modified xsi:type="dcterms:W3CDTF">2013-11-25T00:56:22Z</dcterms:modified>
  <cp:revision>589</cp:revision>
  <dc:subject/>
  <dc:title>Slide 1</dc:title>
</cp:coreProperties>
</file>